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CDEA-576B-4B62-B401-84DF2E2183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1761938A-022C-48D1-908A-75C9F50F145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31840" y="677880"/>
            <a:ext cx="4594320" cy="3444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EECAD1D-16DD-4F71-B9D0-9D4BCE324B5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06480" y="736560"/>
            <a:ext cx="4984560" cy="37386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B7C0-63C5-40C6-B7A7-2D3F8431A1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70E5BCD2-A3CA-41E6-9FB5-FE491935620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644B-1155-47C8-91A4-39766693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FF15-98D3-4DE2-A973-8EDB81C9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B6D0-F26A-40CD-871E-DC362997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608-89A1-4C2D-AA08-77983ADC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0C1-BBFA-4FB6-AC54-0F752AB6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654-3BC6-4853-AD2E-BC73D832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565D-08F5-485A-8C84-E8A50AB2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DF50-38FE-4FCE-AFA8-8BF91DA8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E53D-F726-4CC2-BADB-47A37DD0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18AF-233B-4BE2-B627-9C57C789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2F2-AC34-422B-87D9-B89B329D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FAAA-D70B-4503-98A1-644F7A70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D297-3D25-490F-A08C-42AA07A3A0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2843280" y="260280"/>
            <a:ext cx="617832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Статья 1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1. В Российской Федерации признается идеологическое многообрази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2. Никакая идеология не может устанавливаться в качестве государственной или обязательн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3. В Российской Федерации признаются политическое многообразие, многопартийн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4. Общественные объединения равны перед законо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5. Запрещается создание и деятельность общественных объединений, цели или действия которых направлены на насильственное изменение основ конституционного строя и нарушение целостности Российской Федерации, подрыв безопасности государства, создание вооруженных формирований, разжигание социальной, расовой, национальной и религиозной розн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112680" y="540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ФЗ № 114 от 25.07.2002 «О противодействии экстремистской деятельности», статья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кстремистская деятельность (экстремизм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255600" y="781200"/>
            <a:ext cx="88567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. насильственное изменение основ конституционного строя и нарушение целостности Российской Федерац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2. публичное оправдание терроризма и иная террористическая деятельность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3. возбуждение социальной, расовой, национальной или религиозной розн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3. пропаганда исключительности, превосходства либо неполноценности человека по признаку его социальной, 4. расовой, национальной, религиозной или языковой принадлежности или отношения к религ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5. нарушение прав, свобод и законных интересов человека и гражданина в зависимости от его социальной, расовой, национальной, религиозной или языковой принадлежности или отношения к религ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6. воспрепятствование осуществлению гражданами их избирательных прав и права на участие в референдуме или нарушение тайны голосования, соединенные с насилием либо угрозой его приме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7. воспрепятствование законной деятельности государственных органов, органов местного самоуправления, избирательных комиссий, общественных и религиозных объединений или иных организаций, соединенное с насилием либо угрозой его приме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8. совершение преступлений по мотивам, указанным в пункте «е» части первой статьи 63 Уголовного кодекса Российской Федерац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9. пропаганда и публичное демонстрирование нацистской атрибутики или символики либо атрибутики или символики, сходных с нацистской атрибутикой или символикой до степени смешения, либо публичное демонстрирование атрибутики или символики экстремистских организаций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0.публичные призывы к осуществлению указанных деяний либо массовое распространение заведомо экстремистских материалов, а равно их изготовление или хранение в целях массового распростра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1. публичное заведомо ложное обвинение лица, замещающего государственную должность Российской Федерации или государственную должность субъекта Российской Федерации, в совершении им в период исполнения своих должностных обязанностей деяний, указанных в настоящей статье и являющихся преступлением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2. организация и подготовка указанных деяний, а также подстрекательство к их осуществлению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3. финансирование указанных деяний либо иное содействие в их организации, подготовке и осуществлении, в том числе путем предоставления учебной, полиграфической и материально-технической базы, телефонной и иных видов связи или оказания информационных услуг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Прямоугольник 2"/>
          <p:cNvGrpSpPr/>
          <p:nvPr/>
        </p:nvGrpSpPr>
        <p:grpSpPr>
          <a:xfrm>
            <a:off x="-103320" y="-109440"/>
            <a:ext cx="9150480" cy="920520"/>
            <a:chOff x="-103320" y="-109440"/>
            <a:chExt cx="9150480" cy="920520"/>
          </a:xfrm>
        </p:grpSpPr>
        <p:pic>
          <p:nvPicPr>
            <p:cNvPr id="72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-103320" y="-109440"/>
              <a:ext cx="91504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52360" y="-7920"/>
              <a:ext cx="87757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Особенности и виды современных экстремистских проявлени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Прямоугольник 4"/>
          <p:cNvGrpSpPr/>
          <p:nvPr/>
        </p:nvGrpSpPr>
        <p:grpSpPr>
          <a:xfrm>
            <a:off x="-139680" y="1079640"/>
            <a:ext cx="4254480" cy="998280"/>
            <a:chOff x="-139680" y="1079640"/>
            <a:chExt cx="4254480" cy="998280"/>
          </a:xfrm>
        </p:grpSpPr>
        <p:pic>
          <p:nvPicPr>
            <p:cNvPr id="75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39680" y="1079640"/>
              <a:ext cx="425448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19240" y="1093680"/>
              <a:ext cx="387792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Экстремизм - явление мегаполисов </a:t>
              </a:r>
              <a:br>
                <a:rPr sz="1500"/>
              </a:b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и культурных центр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Прямоугольник 5"/>
          <p:cNvGrpSpPr/>
          <p:nvPr/>
        </p:nvGrpSpPr>
        <p:grpSpPr>
          <a:xfrm>
            <a:off x="4761000" y="1079640"/>
            <a:ext cx="4249800" cy="1011240"/>
            <a:chOff x="4761000" y="1079640"/>
            <a:chExt cx="4249800" cy="1011240"/>
          </a:xfrm>
        </p:grpSpPr>
        <p:pic>
          <p:nvPicPr>
            <p:cNvPr id="78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4761000" y="1079640"/>
              <a:ext cx="424980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118120" y="1093680"/>
              <a:ext cx="387828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Экстремизм связан </a:t>
              </a:r>
              <a:br>
                <a:rPr sz="1500"/>
              </a:b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с распространением информ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Овал 7"/>
          <p:cNvSpPr/>
          <p:nvPr/>
        </p:nvSpPr>
        <p:spPr>
          <a:xfrm>
            <a:off x="87480" y="1860480"/>
            <a:ext cx="3506760" cy="1376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цион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низ 8"/>
          <p:cNvSpPr/>
          <p:nvPr/>
        </p:nvSpPr>
        <p:spPr>
          <a:xfrm>
            <a:off x="1584360" y="561960"/>
            <a:ext cx="1039680" cy="393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низ 11"/>
          <p:cNvSpPr/>
          <p:nvPr/>
        </p:nvSpPr>
        <p:spPr>
          <a:xfrm>
            <a:off x="4114800" y="577800"/>
            <a:ext cx="934920" cy="747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2"/>
          <p:cNvSpPr/>
          <p:nvPr/>
        </p:nvSpPr>
        <p:spPr>
          <a:xfrm>
            <a:off x="3711600" y="2975040"/>
            <a:ext cx="2444760" cy="1684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4"/>
          <p:cNvSpPr/>
          <p:nvPr/>
        </p:nvSpPr>
        <p:spPr>
          <a:xfrm>
            <a:off x="6060960" y="1860480"/>
            <a:ext cx="3025800" cy="12812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и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15"/>
          <p:cNvSpPr/>
          <p:nvPr/>
        </p:nvSpPr>
        <p:spPr>
          <a:xfrm>
            <a:off x="6056280" y="4513320"/>
            <a:ext cx="2940120" cy="1401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16"/>
          <p:cNvSpPr/>
          <p:nvPr/>
        </p:nvSpPr>
        <p:spPr>
          <a:xfrm>
            <a:off x="282600" y="4327560"/>
            <a:ext cx="3238560" cy="1400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культу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низ 18"/>
          <p:cNvSpPr/>
          <p:nvPr/>
        </p:nvSpPr>
        <p:spPr>
          <a:xfrm>
            <a:off x="6416640" y="574560"/>
            <a:ext cx="1039680" cy="393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Двойная стрелка вверх/вниз 3"/>
          <p:cNvSpPr/>
          <p:nvPr/>
        </p:nvSpPr>
        <p:spPr>
          <a:xfrm>
            <a:off x="1668600" y="3449520"/>
            <a:ext cx="465120" cy="663840"/>
          </a:xfrm>
          <a:prstGeom prst="upDown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Двойная стрелка вверх/вниз 20"/>
          <p:cNvSpPr/>
          <p:nvPr/>
        </p:nvSpPr>
        <p:spPr>
          <a:xfrm rot="5400000">
            <a:off x="4681800" y="2159640"/>
            <a:ext cx="465120" cy="663480"/>
          </a:xfrm>
          <a:prstGeom prst="up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Двойная стрелка вверх/вниз 22"/>
          <p:cNvSpPr/>
          <p:nvPr/>
        </p:nvSpPr>
        <p:spPr>
          <a:xfrm>
            <a:off x="7332840" y="342900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Двойная стрелка вверх/вниз 23"/>
          <p:cNvSpPr/>
          <p:nvPr/>
        </p:nvSpPr>
        <p:spPr>
          <a:xfrm rot="5400000">
            <a:off x="4666680" y="4836960"/>
            <a:ext cx="465120" cy="664920"/>
          </a:xfrm>
          <a:prstGeom prst="up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Двойная стрелка вверх/вниз 24"/>
          <p:cNvSpPr/>
          <p:nvPr/>
        </p:nvSpPr>
        <p:spPr>
          <a:xfrm rot="7919400">
            <a:off x="3360240" y="2842920"/>
            <a:ext cx="465120" cy="664920"/>
          </a:xfrm>
          <a:prstGeom prst="up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Двойная стрелка вверх/вниз 25"/>
          <p:cNvSpPr/>
          <p:nvPr/>
        </p:nvSpPr>
        <p:spPr>
          <a:xfrm rot="2658600">
            <a:off x="3320640" y="410040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Двойная стрелка вверх/вниз 26"/>
          <p:cNvSpPr/>
          <p:nvPr/>
        </p:nvSpPr>
        <p:spPr>
          <a:xfrm rot="2658600">
            <a:off x="6089400" y="289548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Двойная стрелка вверх/вниз 27"/>
          <p:cNvSpPr/>
          <p:nvPr/>
        </p:nvSpPr>
        <p:spPr>
          <a:xfrm rot="7919400">
            <a:off x="6093000" y="4068000"/>
            <a:ext cx="465120" cy="663480"/>
          </a:xfrm>
          <a:prstGeom prst="up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217440" y="192600"/>
            <a:ext cx="8713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Особенности экстремистски настроенной личности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65240" y="788400"/>
            <a:ext cx="8818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Категоричное разделение окружающей действительности на «добро» и «зло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Завышенная самооценка и чрезвычайная гордость своими действительными и воображаемыми превосходными качествами, мнение об особом моральном превосходстве над окружающ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тремление объяснять свои неудачи и ошибки враждебностью, злонамеренностью своего социального окру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Особого рода сценарии поведения, которые можно описать терминами конфликт, деструкция и преодоление (спасение)  через революцию, либо через бегство от окружающей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1487160"/>
            <a:ext cx="9070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АНАТИЗМА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товность жертвовать во имя этих идей собственной жизнью и жизнями других люд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уннельное» мировосприятие, то есть восприятие мир через очень жесткую приз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рицание толерантности под которой понимается право другого лица на собственный мировоззренческий выб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ществование на уровне группы, поддержка во взаимном признани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совместном разжигании своих эмоций по поводу общих и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зелитизм как стремление обращать в свою веру окружающих, расширять сферу ее вли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емление противостоять модернизации, приверженность старым, «фундаментальным» ценностям, структурам и способам организации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метом веры может быть не только сверхъестественная реаль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натик есть идеальная кандидатура для совершения террористических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9"/>
          <p:cNvSpPr/>
          <p:nvPr/>
        </p:nvSpPr>
        <p:spPr>
          <a:xfrm>
            <a:off x="214200" y="65160"/>
            <a:ext cx="892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ория и практика насилия насильственного насаждения религиозной веры среди неверующих либо представителей других религий, нарушение права на свободу совести и вероисповед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оугольник 2"/>
          <p:cNvGrpSpPr/>
          <p:nvPr/>
        </p:nvGrpSpPr>
        <p:grpSpPr>
          <a:xfrm>
            <a:off x="3260880" y="2584440"/>
            <a:ext cx="2931840" cy="1585800"/>
            <a:chOff x="3260880" y="2584440"/>
            <a:chExt cx="2931840" cy="1585800"/>
          </a:xfrm>
        </p:grpSpPr>
        <p:pic>
          <p:nvPicPr>
            <p:cNvPr id="101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60880" y="2584440"/>
              <a:ext cx="2931840" cy="15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635280" y="2597040"/>
              <a:ext cx="25131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Виды современных экстремистских проявл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Стрелка вниз 20"/>
          <p:cNvSpPr/>
          <p:nvPr/>
        </p:nvSpPr>
        <p:spPr>
          <a:xfrm rot="7275600">
            <a:off x="2642400" y="1820520"/>
            <a:ext cx="824040" cy="99828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25"/>
          <p:cNvSpPr/>
          <p:nvPr/>
        </p:nvSpPr>
        <p:spPr>
          <a:xfrm>
            <a:off x="141120" y="4581360"/>
            <a:ext cx="3600720" cy="1568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ккультно-сатан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26"/>
          <p:cNvSpPr/>
          <p:nvPr/>
        </p:nvSpPr>
        <p:spPr>
          <a:xfrm>
            <a:off x="5454720" y="417600"/>
            <a:ext cx="3552840" cy="1466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оталитарно-сектан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27"/>
          <p:cNvSpPr/>
          <p:nvPr/>
        </p:nvSpPr>
        <p:spPr>
          <a:xfrm>
            <a:off x="5364000" y="4581360"/>
            <a:ext cx="3627720" cy="1568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языче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28"/>
          <p:cNvSpPr/>
          <p:nvPr/>
        </p:nvSpPr>
        <p:spPr>
          <a:xfrm>
            <a:off x="212760" y="317520"/>
            <a:ext cx="3794040" cy="15699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лам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29"/>
          <p:cNvSpPr/>
          <p:nvPr/>
        </p:nvSpPr>
        <p:spPr>
          <a:xfrm rot="3018600">
            <a:off x="2658600" y="3714840"/>
            <a:ext cx="824040" cy="99828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30"/>
          <p:cNvSpPr/>
          <p:nvPr/>
        </p:nvSpPr>
        <p:spPr>
          <a:xfrm rot="13931400">
            <a:off x="6213960" y="1820880"/>
            <a:ext cx="824040" cy="99684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низ 31"/>
          <p:cNvSpPr/>
          <p:nvPr/>
        </p:nvSpPr>
        <p:spPr>
          <a:xfrm rot="18618000">
            <a:off x="6175080" y="3665160"/>
            <a:ext cx="823680" cy="99864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216000" y="189000"/>
            <a:ext cx="8928000" cy="55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ламизм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Джихад</a:t>
            </a:r>
            <a:r>
              <a:rPr b="1" i="1" lang="ru-RU" sz="5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5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Халифат</a:t>
            </a:r>
            <a:r>
              <a:rPr b="1" lang="ru-RU" sz="5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деи ислама, подвергнутые исламистской интерпрета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0" y="115920"/>
            <a:ext cx="8928000" cy="66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ечень некоммерческих организаций, в отношении которых судом принято вступившее в законную силу решение о ликвидации или запрете деятельности по основаниям, предусмотренным ФЗ «О противодействии экстремистской деятельности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урджулар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аблиги Джамаат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т-Такфир Валь-Хиджр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диный федеральный список организаций, в том числе иностранных и международных организаций, признанных судами Российской Федерации террористическ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аза» («Аль-Каид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артия исламского освобождения» («Хизб ут-Тахрир аль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аза» («Аль-Каида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сбат аль-Ансар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ященная война» («Аль-Джихад» или «Египетский исламский джихад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группа» («Аль-Гамаа аль-Исламия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ратья-мусульмане» («Аль-Ихван аль-Муслимун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артия исламского освобождения» («Хизб ут-Тахрир аль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Лашкар-И-Тайб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группа» («Джамаат-и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вижение Талиба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партия Туркестана» (бывшее «Исламское движение Узбекистан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бщество социальных реформ» («Джамият аль-Ислах аль-Иджтимаи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бщество возрождения исламского наследия» («Джамият Ихья ат-Тураз аль-Ислами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ом двух святых» («Аль-Харамейн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жунд аш-Шам» (Войско Великой Сири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ий джихад – Джамаат моджахедов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ль-Каида в странах исламского Магриб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ое государство» (другие названия: «Исламское Государство Ирака и Сирии», «Исламское Государство Ирака и Леванта», «Исламское Государство Ирака и Шам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жебхат ан-Нусра (Фронт победы) (другие названия: «Джабха аль-Нусра ли-Ахль аш-Шам» (Фронт поддержки Великой Сири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джр от Аллаха Субхану уа Тагьаля SHAM» (Благословение от Аллаха милоственного и милосердного СИРИ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уджахеды джамаата Ат-Тавхида Валь-Джихад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17640" y="90792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2427480" y="189000"/>
            <a:ext cx="42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minjust.ru/ru/nko/perechen_zap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9036000" cy="51436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2"/>
          <p:cNvSpPr/>
          <p:nvPr/>
        </p:nvSpPr>
        <p:spPr>
          <a:xfrm>
            <a:off x="503280" y="260280"/>
            <a:ext cx="83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nac.gov.ru/terroristicheskie-i-ekstremistskie-organizacii-i-material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0" y="692280"/>
            <a:ext cx="9134640" cy="51386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1552680" y="115920"/>
            <a:ext cx="60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minjust.ru/ru/extremist-materi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844720" y="998640"/>
            <a:ext cx="6141960" cy="56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Статья 1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Российская Федерация - светское государство. Никакая религия не может устанавливаться в качестве государственной или обязательн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Религиозные объединения отделены от государства и равны перед законо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2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ждому гарантируется свобода совести, свобода вероисповедания, включая право исповедовать индивидуально или совместно с другими любую религию или не исповедовать никакой, свободно выбирать, иметь и распространять религиозные и иные убеждения и действовать в соответствии с ни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108000" y="15840"/>
            <a:ext cx="8856720" cy="65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оталитарная секта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это деструктивная религиозная или квазирелигиозная (имитирующая религиозную) организация, стремящаяся к установлению полного (тотального) контроля над сознанием и волей своих послед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тоталитарной сек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лидера − «вождя», в словах и действиях которого нельзя сомне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жесткой организационной структуры мафиозно-партийного типа, фиксированного членства и препятствий к выходу из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кое деление общества на «наших» и «чужих» и противопоставление своей группы всему остальному общ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ый метод спасения или улучшения жизни, который считается секретным и доступен только пришедшим в сек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«двойной» истины: для окружающих и для своих (членов сек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Наличие простых решений сложных социально-политических и личных проб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Прямоугольник 2"/>
          <p:cNvGrpSpPr/>
          <p:nvPr/>
        </p:nvGrpSpPr>
        <p:grpSpPr>
          <a:xfrm>
            <a:off x="1262160" y="49320"/>
            <a:ext cx="6546600" cy="895320"/>
            <a:chOff x="1262160" y="49320"/>
            <a:chExt cx="6546600" cy="895320"/>
          </a:xfrm>
        </p:grpSpPr>
        <p:pic>
          <p:nvPicPr>
            <p:cNvPr id="121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62160" y="49320"/>
              <a:ext cx="65466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619280" y="115920"/>
              <a:ext cx="61768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Виды современных тоталитарных сек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Стрелка вниз 31"/>
          <p:cNvSpPr/>
          <p:nvPr/>
        </p:nvSpPr>
        <p:spPr>
          <a:xfrm rot="19391400">
            <a:off x="6454440" y="541080"/>
            <a:ext cx="407880" cy="399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Прямоугольник 10"/>
          <p:cNvGrpSpPr/>
          <p:nvPr/>
        </p:nvGrpSpPr>
        <p:grpSpPr>
          <a:xfrm>
            <a:off x="324000" y="907920"/>
            <a:ext cx="3687480" cy="901800"/>
            <a:chOff x="324000" y="907920"/>
            <a:chExt cx="3687480" cy="901800"/>
          </a:xfrm>
        </p:grpSpPr>
        <p:pic>
          <p:nvPicPr>
            <p:cNvPr id="125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324000" y="907920"/>
              <a:ext cx="36874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85800" y="974880"/>
              <a:ext cx="33116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христиан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Прямоугольник 11"/>
          <p:cNvGrpSpPr/>
          <p:nvPr/>
        </p:nvGrpSpPr>
        <p:grpSpPr>
          <a:xfrm>
            <a:off x="4857840" y="901800"/>
            <a:ext cx="3689280" cy="907920"/>
            <a:chOff x="4857840" y="901800"/>
            <a:chExt cx="3689280" cy="907920"/>
          </a:xfrm>
        </p:grpSpPr>
        <p:pic>
          <p:nvPicPr>
            <p:cNvPr id="128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4857840" y="901800"/>
              <a:ext cx="36892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219640" y="963720"/>
              <a:ext cx="331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восточ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Прямоугольник 12"/>
          <p:cNvGrpSpPr/>
          <p:nvPr/>
        </p:nvGrpSpPr>
        <p:grpSpPr>
          <a:xfrm>
            <a:off x="5151600" y="3029040"/>
            <a:ext cx="3681360" cy="1171440"/>
            <a:chOff x="5151600" y="3029040"/>
            <a:chExt cx="3681360" cy="1171440"/>
          </a:xfrm>
        </p:grpSpPr>
        <p:pic>
          <p:nvPicPr>
            <p:cNvPr id="131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5151600" y="3029040"/>
              <a:ext cx="368136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508720" y="3147840"/>
              <a:ext cx="33112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Психологическ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и коммерческие куль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Прямоугольник 1"/>
          <p:cNvSpPr/>
          <p:nvPr/>
        </p:nvSpPr>
        <p:spPr>
          <a:xfrm>
            <a:off x="4951440" y="1698480"/>
            <a:ext cx="39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УМ Синрике» (AumShinrikyo, AUM, Alep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Единый федеральный список организаций,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ом числе иностранных и международных организаций, признанных судами Российской Федерации террористически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4"/>
          <p:cNvSpPr/>
          <p:nvPr/>
        </p:nvSpPr>
        <p:spPr>
          <a:xfrm>
            <a:off x="19080" y="1544760"/>
            <a:ext cx="493236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идетели Иеговы» («Общество сторожевой башни»)</a:t>
            </a:r>
            <a:r>
              <a:rPr b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огородичный центр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MS Mincho"/>
              </a:rPr>
              <a:t>(Православная церковь Божьей Матери Державная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 в Перечень некоммерческих организаций, в отношении которых судом принято вступившее в законную силу решение о ликвидации или запрете деятельности по основаниям, предусмотренным ФЗ «О противодействии экстремистской деятельности», ряд материалов 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идетелей Иеговы» </a:t>
            </a: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ключены в Федеральный список экстремистских материа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трелка вниз 15"/>
          <p:cNvSpPr/>
          <p:nvPr/>
        </p:nvSpPr>
        <p:spPr>
          <a:xfrm rot="2211600">
            <a:off x="2355480" y="547560"/>
            <a:ext cx="406440" cy="400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низ 16"/>
          <p:cNvSpPr/>
          <p:nvPr/>
        </p:nvSpPr>
        <p:spPr>
          <a:xfrm>
            <a:off x="4221000" y="503280"/>
            <a:ext cx="406440" cy="47772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4627440" y="4179960"/>
            <a:ext cx="46767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ентологическое движение (учение Дианетики, последова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файета Рон Хаббард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ряд материалов включены в Федеральный список экстремистских материа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 Богодержав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Прямоугольник 19"/>
          <p:cNvGrpSpPr/>
          <p:nvPr/>
        </p:nvGrpSpPr>
        <p:grpSpPr>
          <a:xfrm>
            <a:off x="517680" y="3736800"/>
            <a:ext cx="3682800" cy="858960"/>
            <a:chOff x="517680" y="3736800"/>
            <a:chExt cx="3682800" cy="858960"/>
          </a:xfrm>
        </p:grpSpPr>
        <p:pic>
          <p:nvPicPr>
            <p:cNvPr id="139" name="Прямоугольник 19" descr=""/>
            <p:cNvPicPr/>
            <p:nvPr/>
          </p:nvPicPr>
          <p:blipFill>
            <a:blip r:embed="rId5"/>
            <a:stretch/>
          </p:blipFill>
          <p:spPr>
            <a:xfrm>
              <a:off x="517680" y="3736800"/>
              <a:ext cx="368280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874800" y="3843360"/>
              <a:ext cx="33130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мусульман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Прямоугольник 5"/>
          <p:cNvSpPr/>
          <p:nvPr/>
        </p:nvSpPr>
        <p:spPr>
          <a:xfrm>
            <a:off x="198360" y="4560840"/>
            <a:ext cx="457200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Файзрахманис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ечеть Мирмаме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3"/>
          <p:cNvSpPr/>
          <p:nvPr/>
        </p:nvSpPr>
        <p:spPr>
          <a:xfrm>
            <a:off x="2987640" y="189000"/>
            <a:ext cx="59184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квидация религиозной организации 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Управленческий центр Свидетелей Иеговы в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112680" y="2397240"/>
            <a:ext cx="887580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62. Религиозная организация «Управленческий центр Свидетелей Иеговы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в России» и входящие в ее структуру местные религиозные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Сер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 Нижняя 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г. Первоураль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г. Верхняя Пыш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 Екатеринбур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 Краснотурьинс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Нижний Тагил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Североуральск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(решение Верховного Суда Российской Федерации от 20.04.2017, апелляционное определение Апелляционной коллегии Верховного Суда Российской Федерации от 17.07.2017; часть 4 статьи 9 Федерального закона  от 25.07.2002 № 114-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3564000" y="1197000"/>
            <a:ext cx="4572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ПЕРЕЧЕНЬ НЕКОММЕРЧЕСКИХ ОРГАНИЗАЦИЙ, В ОТНОШЕНИИ КОТОРЫХ СУДОМ ПРИНЯТО ВСТУПИВШЕЕ 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В ЗАКОННУЮ СИЛУ РЕШЕНИЕ О ЛИКВИДАЦИИ ИЛИ ЗАПРЕТЕ ДЕЯТЕЛЬНОСТИ ПО ОСНОВАНИЯМ, ПРЕДУСМОТРЕННЫМ ФЗ «О ПРОТИВОДЕЙСТВИИ ЭКСТРЕМИСТСКОЙ ДЕЯТЕЛЬ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3"/>
          <p:cNvSpPr/>
          <p:nvPr/>
        </p:nvSpPr>
        <p:spPr>
          <a:xfrm>
            <a:off x="108000" y="0"/>
            <a:ext cx="8894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Информационные материалы, распространяемые централизованной религиозной организацией «Управленческий центр Свидетелей Иеговы в России» и ее местными религиозными организациями Свидетелей Иеговы на территории Российской Федерации, судами признаны экстремистскими ввиду установления фактов наличия в них информации, возбуждающей религиозную рознь, пропагандирующей исключительность, превосходство и неполноценность граждан по признаку их отношения к религии.  На основании вступивших в законную силу решений судов  95 печатных материалов внесены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в федеральный список экстремистских 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Заголовок 1"/>
          <p:cNvSpPr/>
          <p:nvPr/>
        </p:nvSpPr>
        <p:spPr>
          <a:xfrm>
            <a:off x="76320" y="2205000"/>
            <a:ext cx="5790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26000"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изация являлась централизованной религиозной организацией, в структуру которой в настоящее время наря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созданным указанным объединением Руководящим комитетом - высшим органом управления Организации входили 395 местных религиозных организаций, в том числе  8 местных религиозных организаций на территории Свердл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Прямоугольник 1"/>
          <p:cNvGrpSpPr/>
          <p:nvPr/>
        </p:nvGrpSpPr>
        <p:grpSpPr>
          <a:xfrm>
            <a:off x="1262160" y="-23760"/>
            <a:ext cx="6546600" cy="865080"/>
            <a:chOff x="1262160" y="-23760"/>
            <a:chExt cx="6546600" cy="865080"/>
          </a:xfrm>
        </p:grpSpPr>
        <p:pic>
          <p:nvPicPr>
            <p:cNvPr id="14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262160" y="-23760"/>
              <a:ext cx="65466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619280" y="115920"/>
              <a:ext cx="6176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Неоязычест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Прямоугольник 2"/>
          <p:cNvSpPr/>
          <p:nvPr/>
        </p:nvSpPr>
        <p:spPr>
          <a:xfrm>
            <a:off x="282600" y="547560"/>
            <a:ext cx="878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авославная Славянская община «ВЕК РА» (Ведической Культуры Российских Ариев) Скифской Веси Расс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Рада земли Кубанской Духовно Родовой Державы Рус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Древнерусской Инглиистической церкви Православных Староверов-Инглинг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Духовно-Родовая Держава Рус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158760" y="1847880"/>
            <a:ext cx="892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Прямоугольник 2"/>
          <p:cNvGrpSpPr/>
          <p:nvPr/>
        </p:nvGrpSpPr>
        <p:grpSpPr>
          <a:xfrm>
            <a:off x="1262160" y="49320"/>
            <a:ext cx="6546600" cy="858600"/>
            <a:chOff x="1262160" y="49320"/>
            <a:chExt cx="6546600" cy="858600"/>
          </a:xfrm>
        </p:grpSpPr>
        <p:pic>
          <p:nvPicPr>
            <p:cNvPr id="153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62160" y="49320"/>
              <a:ext cx="654660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619280" y="189000"/>
              <a:ext cx="6176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Сатаниз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Прямоугольник 1"/>
          <p:cNvSpPr/>
          <p:nvPr/>
        </p:nvSpPr>
        <p:spPr>
          <a:xfrm>
            <a:off x="3139560" y="68904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лагородный Орден Дьяв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106200" y="1069920"/>
            <a:ext cx="892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79280" y="322560"/>
            <a:ext cx="8785440" cy="58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сенофоб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испытывает эмоциональный дискомфорт иррационального характера при взаимодействии с представителями иных гру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индивида присутствует сформированный негативный стереотипа, отрицательного образ иной группы («они все плохие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 склонен приписывать представителям иных групп враждебные действия и опасные намерения по отношению к другим («они опасны для нас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готов к активным насильственным действиям против этой группы, испытывает соответствующие побуждения («бей первым, нападай, иначе они нападут первы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243000" y="629280"/>
            <a:ext cx="8713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род, религия, социальная группа предстают в негативном све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род, религия, социальная группа объявляются плохими только потому, что их отдельные представители оказались преступниками и негодя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тверждается, что люди определенной группы заведомо лучше и имеют больше прав, чем все осталь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тверждается, что народ, религия, социальная группа тайно замыслили против всех остальных что-то нехорош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зывают к насилию против других народов,  религий или иных социальных груп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684360" y="-1224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тремистские высказы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3"/>
          <p:cNvSpPr/>
          <p:nvPr/>
        </p:nvSpPr>
        <p:spPr>
          <a:xfrm>
            <a:off x="108000" y="11592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ело Соколовског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"/>
          <p:cNvSpPr/>
          <p:nvPr/>
        </p:nvSpPr>
        <p:spPr>
          <a:xfrm>
            <a:off x="71280" y="973080"/>
            <a:ext cx="579600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коловский признан виновным по части 1 статьи 148 УК РФ «Нарушение права на свободу совести и вероисповеданий». В его действиях также обнаружены признаки возбуждения религиозной и национальной розни вражды и ненависти         (ст. 282 УК РФ). В своих видеороликах он неоднократно называл </a:t>
            </a:r>
            <a:r>
              <a:rPr b="1" lang="ru-RU" sz="21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руппы верующих христиан и мусульман </a:t>
            </a:r>
            <a:r>
              <a:rPr b="1" lang="ru-RU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корбительными словами, использовал нецензурную лексику в их адрес, неоднократно оскорбительно отзывался о различных группах граждан: </a:t>
            </a:r>
            <a:r>
              <a:rPr b="1" lang="ru-RU" sz="21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нвалидах, тяжелобольных людях, пациентах хосписов, детях с синдромом Дауна, женщинах и других социальных групп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844720" y="998640"/>
            <a:ext cx="597708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Статья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Каждому гарантируется свобода мысли и сл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Не допускаются пропаганда или агитация, возбуждающие социальную, расовую, национальную или религиозную ненависть и вражду. Запрещается пропаганда социального, расового, национального, религиозного или языкового превосход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Никто не может быть принужден к выражению своих мнений и убеждений или отказу от н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 Каждый имеет право свободно искать, получать, передавать, производить и распространять информацию любым законным способом. Перечень сведений, составляющих государственную тайну, определяется федеральным зако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. Гарантируется свобода массовой информации. Цензура запреща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136440" y="2708280"/>
            <a:ext cx="882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ауны тем более не должны размножаться и распространять свои отвратительные ге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[Женщина] – инкубатор, она слабый пол, и с этим нужно просто смириться, и принять себя такой, какая ты е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от овощ, а вот еще один овощ» (на экране – фото помидора и ребенка с синдромом Дауна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211640" y="231840"/>
            <a:ext cx="4873680" cy="31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ы высказываний Соколовского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ам [в хосписах] лежат неизлечимо больные, они все равно сдохнут. На… им деньги давать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14200" y="67680"/>
            <a:ext cx="89298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национализ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щущение своей сопричастности, единства с некой социальной общностью, рамки которой оказываются шире, чем непосредственные условия и обстоятельства прожив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адлежность к национальности определяется и осознается «по крови», то есть не является результатом интеллектуального выбора или акта «принятия в ряды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даментальное противопоставление «мы-они», «свои-чужие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щущение «свои-чужие» материализуется в зримые образ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 «чужого» фиксируется в языке с помощью термина, несущего отрицательную смысловую нагрузку, дегуманизация, когда представитель «чужих» сравнивается с неодушевленным предмет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отношению к дегуманизированному объекту допускается возможность насил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0" y="944640"/>
            <a:ext cx="51991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АУЕ (А. У. Е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, «Арестантский уклад един» («Арестантское уркаганское единство») – молодёжное субкультурное сообщество, пропагандирующее среди несовершеннолетних воровские понятия российской криминальной среды и тюремные понятия, требующее соблюдение «воровского кодекса» со сбором денег на «общак», взамен обещая поддержку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и защиту в настоящем и будущ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2"/>
          <p:cNvSpPr/>
          <p:nvPr/>
        </p:nvSpPr>
        <p:spPr>
          <a:xfrm>
            <a:off x="77760" y="857160"/>
            <a:ext cx="599436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ltsin Death Brigades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DB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ригады смертников Ельцина»)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– молодёжное субкультурное сообщество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клонников первого президента России Ельцина. В нем они видят трансцендентную сущность, победившую «красную чуму». Они зовут Бориса Николаевича «наш ледовласый вождь» и ждут его второго пришествия, «когда взойдет Черное Солнце». Твердо уверены, что Ельцин был скином. Готовы повторять его «подвиги»: веселиться и защищать идеалы демократии и свободного 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3"/>
          <p:cNvSpPr/>
          <p:nvPr/>
        </p:nvSpPr>
        <p:spPr>
          <a:xfrm>
            <a:off x="150840" y="857160"/>
            <a:ext cx="879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Calibri"/>
              </a:rPr>
              <a:t>«Колумбайнеры»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– 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молодёжное субкультурное сообщество, интересующихся массовым убийством в американской школе «Колумбайн» и другими подобными нападениями, являющийся поклонником тех, кто совершил эти преступл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-88920" y="2330280"/>
            <a:ext cx="5110200" cy="32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совое убийство в школе «Колумбайн» — заранее подготовленное нападение двух учеников старших классов Эрика Харриса и Дилана Клиболда на остальных учеников и персонал в своей школе с применением стрелкового оружия и самодельных взрывных устройств, произошедшее 20 апреля 1999 года в школе «Колумбайн», штат Колорадо, США. Нападавшие ранили 37 человек, из них 13 — смертельно. После этого нападавшие застрелились сам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5"/>
          <p:cNvSpPr/>
          <p:nvPr/>
        </p:nvSpPr>
        <p:spPr>
          <a:xfrm>
            <a:off x="4817160" y="380988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рик</a:t>
            </a: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рр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6"/>
          <p:cNvSpPr/>
          <p:nvPr/>
        </p:nvSpPr>
        <p:spPr>
          <a:xfrm>
            <a:off x="6586200" y="378792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лан Клибол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5"/>
          <p:cNvSpPr/>
          <p:nvPr/>
        </p:nvSpPr>
        <p:spPr>
          <a:xfrm>
            <a:off x="490680" y="369576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в Бидж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"/>
          <p:cNvSpPr/>
          <p:nvPr/>
        </p:nvSpPr>
        <p:spPr>
          <a:xfrm>
            <a:off x="6651720" y="4653000"/>
            <a:ext cx="22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 Буслид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9"/>
          <p:cNvSpPr/>
          <p:nvPr/>
        </p:nvSpPr>
        <p:spPr>
          <a:xfrm>
            <a:off x="2797200" y="1104840"/>
            <a:ext cx="40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 января 2018 года в школе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27 Мотовилихинского района Перми произошло нападение с применением ножей, в результате которого резаные раны получили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несовершеннолетних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один учите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5"/>
          <p:cNvSpPr/>
          <p:nvPr/>
        </p:nvSpPr>
        <p:spPr>
          <a:xfrm>
            <a:off x="76320" y="333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знание межрегионального общественного движения «Артподготовка» экстремистской организацией и запрет его деятельность на территории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6"/>
          <p:cNvSpPr/>
          <p:nvPr/>
        </p:nvSpPr>
        <p:spPr>
          <a:xfrm>
            <a:off x="195120" y="3456000"/>
            <a:ext cx="876456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Calibri"/>
              </a:rPr>
              <a:t>26.10.2017 Красноярский краевой суд решил признать межрегиональное общественное движение «Артподготовка» экстремистской организацией и запретить его деятельность на территории Российской Федерации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Calibri"/>
              </a:rPr>
              <a:t>Экстремистская деятельность Движения «Артподготовка» проявляется в том, что оно, преследуя цель насильственного свержения государственной власти в Российской Федерации, активно пропагандирует идеи революции и пытается организовать массовые беспорядки, а также распространяет, в том числе в сети «Интернет», материалы, направленные на разжигание межнациональной ненависти и социальной розни, унижение национального достоин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3"/>
          <p:cNvSpPr/>
          <p:nvPr/>
        </p:nvSpPr>
        <p:spPr>
          <a:xfrm>
            <a:off x="85680" y="971640"/>
            <a:ext cx="89251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alibri"/>
                <a:ea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26.10.2017 Красноярский краевой суд решил признать межрегиональное общественное движение «Артподготовка» экстремистской организацией и запретить его деятельность на территории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шение суда в части прекращения деятельности межрегионального общественного движения «Артподготовка» подлежит немедленному испол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шение суда может быть обжаловано через Красноярский краевой суд в Судебную коллегию по административным делам Верховного Суда Российской Федерации в течение месяца со дня принятия решения в окончательной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Экстремистская деятельность Движения «Артподготовка» проявляется в том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что оно, преследуя цель насильственного свержения государственной власти в Российской Федерации, активно пропагандирует идеи революции и пытается организовать массовые беспорядки, а также распространяет, в том числе в сети «Интернет», материалы, направленные на разжигание межнациональной ненависти и социальной розни, унижение национального достои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"/>
          <p:cNvSpPr/>
          <p:nvPr/>
        </p:nvSpPr>
        <p:spPr>
          <a:xfrm>
            <a:off x="108000" y="115920"/>
            <a:ext cx="867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Федеральный закон от 10.01.2003 № 19-ФЗ (ред. от 18.06.2017)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 выборах Президента Российской Федерации»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(с изм. и доп., вступ. в силу с 28.06.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Статья 3. Избирательные права граждан Российской Федерации при выборах Президента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5.2. Не имеет права быть избранным Президентом Российской Федерации гражданин Российской Феде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1) осужденный к лишению свободы за совершение тяжкого и (или) особо тяжкого преступления и имеющий на день голосования неснятую и непогашенную судимость за указанное преступ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1.1) осужденный к лишению свободы за совершение тяжкого преступления, судимость которого снята или погашена, - до истечения 10 лет со дня снятия или погашения судим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"/>
          <p:cNvSpPr/>
          <p:nvPr/>
        </p:nvSpPr>
        <p:spPr>
          <a:xfrm>
            <a:off x="7920" y="4437000"/>
            <a:ext cx="8942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Кировский областной суд 03.05.2017 оставил в силе приговор Алексею Навальному и бизнесмену Петру Офицерову, осужденным по делу о хищении средств компании "Кировлес" на 5 лет и 4 года лишения свободы условно соответственно. Приговор вступил в законную силу. Навальный осужден по части 4 статьи 160 УК РФ ("Присвоение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и растрата"), которая предусматривает до 10 лет лишения свобод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3"/>
          <p:cNvSpPr/>
          <p:nvPr/>
        </p:nvSpPr>
        <p:spPr>
          <a:xfrm>
            <a:off x="1332000" y="4076640"/>
            <a:ext cx="642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20.2. Нарушение установленного порядка организации либо проведения собрания, митинга, демонстрации, шествия или пике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1332000" y="260280"/>
            <a:ext cx="642600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Федеральный закон от 19 июня 2004 года № 54-ФЗ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 собраниях, митингах, демонстрациях, шествиях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и пикетированиях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1413000" y="2025720"/>
            <a:ext cx="6588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Закон Свердловской области от 07.12.2012 № 102-ОЗ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б отдельных вопросах подготовки и проведения публичных мероприятий на территории Свердловской области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1197000" y="5049720"/>
            <a:ext cx="68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5.35. Неисполнение родителями или иными законными представителями несовершеннолетних обязанностей по содержанию и воспитанию несовершеннолет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1278000" y="3429000"/>
            <a:ext cx="65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ДЕКС ОБ АДМИНИСТИВНЫХ ПРАВОНАРУШЕНИЯХ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Овал 1"/>
          <p:cNvSpPr/>
          <p:nvPr/>
        </p:nvSpPr>
        <p:spPr>
          <a:xfrm>
            <a:off x="250920" y="154080"/>
            <a:ext cx="8713800" cy="6299280"/>
          </a:xfrm>
          <a:prstGeom prst="ellipse">
            <a:avLst/>
          </a:prstGeom>
          <a:solidFill>
            <a:srgbClr val="ffffd9"/>
          </a:solidFill>
          <a:ln cap="rnd" w="349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2"/>
          <p:cNvSpPr/>
          <p:nvPr/>
        </p:nvSpPr>
        <p:spPr>
          <a:xfrm>
            <a:off x="1170000" y="963720"/>
            <a:ext cx="7189920" cy="4697280"/>
          </a:xfrm>
          <a:prstGeom prst="ellipse">
            <a:avLst/>
          </a:prstGeom>
          <a:solidFill>
            <a:srgbClr val="ffffd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4"/>
          <p:cNvSpPr/>
          <p:nvPr/>
        </p:nvSpPr>
        <p:spPr>
          <a:xfrm>
            <a:off x="2435400" y="2201760"/>
            <a:ext cx="4363920" cy="2519640"/>
          </a:xfrm>
          <a:prstGeom prst="ellipse">
            <a:avLst/>
          </a:prstGeom>
          <a:solidFill>
            <a:srgbClr val="ffffd9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2630520" y="1119600"/>
            <a:ext cx="426708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кстрем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2533680" y="18000"/>
            <a:ext cx="426564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Радик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2533680" y="2657880"/>
            <a:ext cx="426708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Террор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0" y="189000"/>
            <a:ext cx="91440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ветная революция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это технология, задача которой произвести государственный переворот и создать условия для внешнего управления политическими процессами в стране,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 искусственной политической нестабильности. При этом давление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действующую власть оказывается путем политического шантажа, а в качестве движущей силы (инструмента) используется протестное движение</a:t>
            </a:r>
            <a:r>
              <a:rPr b="0" i="1" lang="ru-RU" sz="3600" spc="-1" strike="noStrike">
                <a:solidFill>
                  <a:srgbClr val="dbdbdb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"/>
          <p:cNvSpPr/>
          <p:nvPr/>
        </p:nvSpPr>
        <p:spPr>
          <a:xfrm>
            <a:off x="324000" y="333360"/>
            <a:ext cx="8712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хема цветной революции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дание протестного движения -&gt; превращение его в политическую толпу (силу) 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 направление агрессии толпы на действующую законную власть, вынуждающую ее сдать свои полномочия и отказаться от управления стра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2" descr=""/>
          <p:cNvPicPr/>
          <p:nvPr/>
        </p:nvPicPr>
        <p:blipFill>
          <a:blip r:embed="rId1"/>
          <a:stretch/>
        </p:blipFill>
        <p:spPr>
          <a:xfrm>
            <a:off x="0" y="549360"/>
            <a:ext cx="892332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08000" y="66600"/>
            <a:ext cx="8928000" cy="76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ционалистически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по мотивам национальной или расовой ненависти и вражды, возбуждение ненависти и вражды по отношению к лицам иной национальности или р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по мотивам социальной ненависти и вражды, возбуждение ненависти и вражды по отношению к лицам, принадлежащим к иным социальным группам, в том числе субкультурн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итически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ьственного, незаконного взятия и удержания власти, деяния и призывы к деяниям, направленным на насильственное изменение законно установленного порядка, незаконное взятие или удержание власти, возбуждение ненависти и вражды к представителям политических и идеологических груп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насильственного насаждения религиозной веры среди неверующих либо представителей других религий, нарушение права на свободу совести и вероисповед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08000" y="189000"/>
            <a:ext cx="88898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Молодежная субкультура экстремистской направленности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это культура молодежного сообщества, которую отличают особый язык, стиль жизни, черты поведения, групповые нормы, ценности, средства самовыражения, направленные против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принятых культурных, нравственных и правовых нор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179280" y="84240"/>
            <a:ext cx="86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Виды объединений экстрем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79280" y="497880"/>
            <a:ext cx="8929800" cy="71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Националистически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тнонационалистической и сепарат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убкультурной направленности  (скинхеды, «антифа», «кавказские скинхеды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Социальны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Криминальной направленности («АУЕ», «Колумбайнеры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Социально–политически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Псевдолиберальн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Левоэкстремистск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убкультурной направленности 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ltsin Death Brigades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DB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«Другая Россия-НБП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Религиозны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Ислам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Неоязыческой и оккультно-сатан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Тоталитарные секты и деструктивные куль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5840" y="1409760"/>
            <a:ext cx="8915400" cy="52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деология экстремизма (экстремистская идеология)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истема взглядов и идей, представляющих насильственные и иные противоправные действия как основное средство разрешения социальных, расовых, национальных, религиозных и политических конфликт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оявления экстремизма (экстремистские проявления)»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1" lang="ru-RU" sz="27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общественно опасные и противоправные деяния, </a:t>
            </a: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вершаемые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по мотивам политической, идеологической, расовой, национальной или религиозной ненависти или вражды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а также деяния, способствующие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озникновению или обострению межнациональных, межконфессиональных и региональных конфликт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108000" y="115920"/>
            <a:ext cx="8820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ратегия противодействия </a:t>
            </a:r>
            <a:r>
              <a:rPr b="0" lang="ru-RU" sz="2700" spc="-1" strike="noStrike">
                <a:solidFill>
                  <a:srgbClr val="0000cc"/>
                </a:solidFill>
                <a:latin typeface="Calibri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экстремизму </a:t>
            </a:r>
            <a:br>
              <a:rPr sz="2700"/>
            </a:b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Российской Федерации до 2025 го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утверждена Президентом РФ 28.11.2014 № Пр-275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ÐÐ° Ð´Ð°Ð½Ð½Ð¾Ð¼ Ð¸Ð·Ð¾Ð±ÑÐ°Ð¶ÐµÐ½Ð¸Ð¸ Ð¼Ð¾Ð¶ÐµÑ Ð½Ð°ÑÐ¾Ð´Ð¸ÑÑÑÑ: 1 ÑÐµÐ»Ð¾Ð²ÐµÐº, ÑÑÐ¾Ð¸Ñ, Ð±Ð¾ÑÐ¾Ð´Ð° Ð¸ Ð½Ð° ÑÐ»Ð¸ÑÐµ"/>
          <p:cNvPicPr/>
          <p:nvPr/>
        </p:nvPicPr>
        <p:blipFill>
          <a:blip r:embed="rId1"/>
          <a:stretch/>
        </p:blipFill>
        <p:spPr>
          <a:xfrm>
            <a:off x="108000" y="15840"/>
            <a:ext cx="5184720" cy="6913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5275440" y="2349360"/>
            <a:ext cx="386856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 WONT STAR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DEA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THIS 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 flipV="1">
            <a:off x="1477800" y="1735920"/>
            <a:ext cx="1222560" cy="25236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8:18:23Z</dcterms:created>
  <dc:creator>ave</dc:creator>
  <dc:description/>
  <dc:language>en-US</dc:language>
  <cp:lastModifiedBy>Суслонов Павел Евгеньевич</cp:lastModifiedBy>
  <cp:lastPrinted>2018-09-04T13:19:58Z</cp:lastPrinted>
  <dcterms:modified xsi:type="dcterms:W3CDTF">2018-10-16T04:36:45Z</dcterms:modified>
  <cp:revision>310</cp:revision>
  <dc:subject/>
  <dc:title>САНКТ-ПЕТЕРБУРГСКИЙ УНИВЕРСИТЕТ МВД РОССИИ</dc:title>
</cp:coreProperties>
</file>